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792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9840" y="2720520"/>
            <a:ext cx="792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984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136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0040" y="171720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9880" y="171720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9840" y="272052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0040" y="272052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9880" y="272052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69840" y="1717200"/>
            <a:ext cx="792648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792648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6984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9840" y="1717200"/>
            <a:ext cx="792648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136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69840" y="2720520"/>
            <a:ext cx="792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792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69840" y="2720520"/>
            <a:ext cx="792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6984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3136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040" y="171720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880" y="171720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69840" y="272052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040" y="272052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880" y="2720520"/>
            <a:ext cx="2552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792648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984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1360" y="272052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984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1360" y="1717200"/>
            <a:ext cx="3867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9840" y="2720520"/>
            <a:ext cx="792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69840" y="1717200"/>
            <a:ext cx="792648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 lvl="1" marL="504720" indent="-245880">
              <a:buClr>
                <a:srgbClr val="000000"/>
              </a:buClr>
              <a:buSzPct val="120000"/>
              <a:buFont typeface="Akzidenz Grotesk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 lvl="2" marL="752400" indent="-245880"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 lvl="3" marL="990720" indent="-236520">
              <a:buClr>
                <a:srgbClr val="0099cc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 lvl="4" marL="1181160">
              <a:buClr>
                <a:srgbClr val="0099cc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 lvl="5" marL="1181160">
              <a:buClr>
                <a:srgbClr val="000000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 lvl="6" marL="1181160">
              <a:buClr>
                <a:srgbClr val="000000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zidenz Grotesk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0040" y="6210360"/>
            <a:ext cx="8688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" name="Rectangle"/>
          <p:cNvSpPr/>
          <p:nvPr/>
        </p:nvSpPr>
        <p:spPr>
          <a:xfrm>
            <a:off x="8300520" y="6389640"/>
            <a:ext cx="84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kzidenz Grotesk Roman"/>
            </a:endParaRPr>
          </a:p>
          <a:p>
            <a:pPr algn="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kzidenz Grotesk Roman"/>
              </a:rPr>
              <a:t>Folie </a:t>
            </a:r>
            <a:fld id="{B4A3D615-C95D-4C73-9B0F-8AF7BECEFEC0}" type="slidenum">
              <a:rPr b="0" lang="de-CH" sz="900" spc="-1" strike="noStrike">
                <a:solidFill>
                  <a:srgbClr val="000000"/>
                </a:solidFill>
                <a:latin typeface="Akzidenz Grotesk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kzidenz Grotesk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6384960"/>
            <a:ext cx="60480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716280" y="6348240"/>
            <a:ext cx="445608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kzidenz Grotesk Roman"/>
              </a:rPr>
              <a:t>Credit Suisse / Information Technology / IT Architecture</a:t>
            </a:r>
            <a:endParaRPr b="0" lang="en-US" sz="9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kzidenz Grotesk Roman"/>
              </a:rPr>
              <a:t>24. November 2004 / Marianne Schmid</a:t>
            </a:r>
            <a:endParaRPr b="0" lang="en-US" sz="900" spc="-1" strike="noStrike">
              <a:solidFill>
                <a:srgbClr val="000000"/>
              </a:solidFill>
              <a:latin typeface="Akzidenz Grotesk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61520" y="81000"/>
            <a:ext cx="352440" cy="388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Click to edit the title text format</a:t>
            </a: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6600" y="1665360"/>
            <a:ext cx="79484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3300" spc="-1" strike="noStrike">
                <a:solidFill>
                  <a:srgbClr val="0099cc"/>
                </a:solidFill>
                <a:latin typeface="Akzidenz Grotesk Roman"/>
              </a:rPr>
              <a:t>Click to edit the title text format</a:t>
            </a:r>
            <a:endParaRPr b="0" lang="en-US" sz="33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ferproject.org/index.html" TargetMode="External"/><Relationship Id="rId2" Type="http://schemas.openxmlformats.org/officeDocument/2006/relationships/hyperlink" Target="http://www.waferproject.org/index.html" TargetMode="External"/><Relationship Id="rId3" Type="http://schemas.openxmlformats.org/officeDocument/2006/relationships/hyperlink" Target="http://www.frameworks-boulder.org/" TargetMode="External"/><Relationship Id="rId4" Type="http://schemas.openxmlformats.org/officeDocument/2006/relationships/hyperlink" Target="http://mvc2frameworks.org/" TargetMode="External"/><Relationship Id="rId5" Type="http://schemas.openxmlformats.org/officeDocument/2006/relationships/hyperlink" Target="http://www.java201.com/resources/subjects/web_application_frameworks.html" TargetMode="External"/><Relationship Id="rId6" Type="http://schemas.openxmlformats.org/officeDocument/2006/relationships/hyperlink" Target="http://www.theserverside.com/articles/" TargetMode="External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Text"/>
          <p:cNvSpPr/>
          <p:nvPr/>
        </p:nvSpPr>
        <p:spPr>
          <a:xfrm>
            <a:off x="914400" y="1693800"/>
            <a:ext cx="79484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99cc"/>
                </a:solidFill>
                <a:latin typeface="Akzidenz Grotesk Roman"/>
              </a:rPr>
              <a:t>HTML BASED UI FRAMEWORK EVALUATION</a:t>
            </a:r>
            <a:br>
              <a:rPr sz="2600"/>
            </a:br>
            <a:r>
              <a:rPr b="0" lang="de-CH" sz="2600" spc="-1" strike="noStrike">
                <a:solidFill>
                  <a:srgbClr val="0099cc"/>
                </a:solidFill>
                <a:latin typeface="Akzidenz Grotesk Roman"/>
              </a:rPr>
              <a:t>What really matters to an enterprise company</a:t>
            </a:r>
            <a:endParaRPr b="0" lang="en-US" sz="26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81" name="AuthorText"/>
          <p:cNvSpPr/>
          <p:nvPr/>
        </p:nvSpPr>
        <p:spPr>
          <a:xfrm>
            <a:off x="914400" y="4014720"/>
            <a:ext cx="794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7040" indent="-257040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kzidenz Grotesk Roman"/>
              </a:rPr>
              <a:t>Marianne Schmid 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341960"/>
            <a:ext cx="794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7040" indent="-257040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kzidenz Grotesk Roman"/>
              </a:rPr>
              <a:t>IT Architecture Credit Suisse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83" name="DateText"/>
          <p:cNvSpPr/>
          <p:nvPr/>
        </p:nvSpPr>
        <p:spPr>
          <a:xfrm>
            <a:off x="914400" y="4681440"/>
            <a:ext cx="794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7040" indent="-257040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kzidenz Grotesk Roman"/>
              </a:rPr>
              <a:t>JUGS 24. November 2004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330200" y="2747880"/>
            <a:ext cx="7585200" cy="804960"/>
            <a:chOff x="1330200" y="2747880"/>
            <a:chExt cx="7585200" cy="804960"/>
          </a:xfrm>
        </p:grpSpPr>
        <p:sp>
          <p:nvSpPr>
            <p:cNvPr id="183" name=""/>
            <p:cNvSpPr/>
            <p:nvPr/>
          </p:nvSpPr>
          <p:spPr>
            <a:xfrm>
              <a:off x="2916360" y="2747880"/>
              <a:ext cx="5999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e Cases search person, browse list of persons, display person detail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placed presentation layer, used model layer including service call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330200" y="2789280"/>
              <a:ext cx="1320840" cy="763560"/>
              <a:chOff x="1330200" y="2789280"/>
              <a:chExt cx="1320840" cy="763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330200" y="27892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19120" y="295704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JAP Reference Application 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330200" y="1762200"/>
            <a:ext cx="7585200" cy="795240"/>
            <a:chOff x="1330200" y="1762200"/>
            <a:chExt cx="7585200" cy="795240"/>
          </a:xfrm>
        </p:grpSpPr>
        <p:sp>
          <p:nvSpPr>
            <p:cNvPr id="188" name=""/>
            <p:cNvSpPr/>
            <p:nvPr/>
          </p:nvSpPr>
          <p:spPr>
            <a:xfrm>
              <a:off x="2916360" y="1762200"/>
              <a:ext cx="5999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Built the same prototype with each selected framework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ed JAP Reference Application (sample application) 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ated the frameworks according to prototype experienc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19120" y="196164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Building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rototype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1330200" y="4815000"/>
            <a:ext cx="7585200" cy="1279080"/>
            <a:chOff x="1330200" y="4815000"/>
            <a:chExt cx="7585200" cy="1279080"/>
          </a:xfrm>
        </p:grpSpPr>
        <p:sp>
          <p:nvSpPr>
            <p:cNvPr id="193" name=""/>
            <p:cNvSpPr/>
            <p:nvPr/>
          </p:nvSpPr>
          <p:spPr>
            <a:xfrm>
              <a:off x="2916360" y="4815000"/>
              <a:ext cx="599904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ed JAP development environment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S engineered WLS including security (https/PKI/principal propag.)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Build and deploy script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ed IDE (Eclipse) but no GUI Editor 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330200" y="4856040"/>
              <a:ext cx="1320840" cy="763560"/>
              <a:chOff x="1330200" y="4856040"/>
              <a:chExt cx="1320840" cy="763560"/>
            </a:xfrm>
          </p:grpSpPr>
          <p:sp>
            <p:nvSpPr>
              <p:cNvPr id="195" name=""/>
              <p:cNvSpPr/>
              <p:nvPr/>
            </p:nvSpPr>
            <p:spPr>
              <a:xfrm>
                <a:off x="1330200" y="485604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19120" y="513216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rototypes</a:t>
            </a:r>
            <a:endParaRPr b="0" lang="en-US" sz="24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581280" y="3249720"/>
          <a:ext cx="261144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249720"/>
                    <a:ext cx="261144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30200" y="1762200"/>
            <a:ext cx="7585200" cy="795240"/>
            <a:chOff x="1330200" y="1762200"/>
            <a:chExt cx="7585200" cy="795240"/>
          </a:xfrm>
        </p:grpSpPr>
        <p:sp>
          <p:nvSpPr>
            <p:cNvPr id="203" name=""/>
            <p:cNvSpPr/>
            <p:nvPr/>
          </p:nvSpPr>
          <p:spPr>
            <a:xfrm>
              <a:off x="2916360" y="1762200"/>
              <a:ext cx="5999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Page/action oriented open source framework implementing the Model 2 MVC design pattern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205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19120" y="206820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Framework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1332000" y="4284720"/>
            <a:ext cx="7584480" cy="1492200"/>
            <a:chOff x="1332000" y="4284720"/>
            <a:chExt cx="7584480" cy="1492200"/>
          </a:xfrm>
        </p:grpSpPr>
        <p:sp>
          <p:nvSpPr>
            <p:cNvPr id="208" name=""/>
            <p:cNvSpPr/>
            <p:nvPr/>
          </p:nvSpPr>
          <p:spPr>
            <a:xfrm>
              <a:off x="2917800" y="4284720"/>
              <a:ext cx="59986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Lowest level of abstraction</a:t>
              </a: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 - does not  hide the http request/response cycl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Abstracts much of the nuts and bolts, but it is important to understand what is happening behind the scene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A lot of documentation / active community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No problem to create running prototyp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332000" y="4325760"/>
              <a:ext cx="1320480" cy="763560"/>
              <a:chOff x="1332000" y="4325760"/>
              <a:chExt cx="1320480" cy="763560"/>
            </a:xfrm>
          </p:grpSpPr>
          <p:sp>
            <p:nvSpPr>
              <p:cNvPr id="210" name=""/>
              <p:cNvSpPr/>
              <p:nvPr/>
            </p:nvSpPr>
            <p:spPr>
              <a:xfrm>
                <a:off x="1332000" y="432576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20560" y="438876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rototype experience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rototypes – Apache Struts</a:t>
            </a:r>
            <a:endParaRPr b="0" lang="en-US" sz="2400" spc="-1" strike="noStrike">
              <a:solidFill>
                <a:srgbClr val="0099cc"/>
              </a:solidFill>
              <a:latin typeface="Akzidenz Grotesk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2000" y="2529000"/>
            <a:ext cx="36482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30200" y="1762200"/>
            <a:ext cx="7585200" cy="852840"/>
            <a:chOff x="1330200" y="1762200"/>
            <a:chExt cx="7585200" cy="852840"/>
          </a:xfrm>
        </p:grpSpPr>
        <p:sp>
          <p:nvSpPr>
            <p:cNvPr id="216" name=""/>
            <p:cNvSpPr/>
            <p:nvPr/>
          </p:nvSpPr>
          <p:spPr>
            <a:xfrm>
              <a:off x="2916360" y="1762200"/>
              <a:ext cx="5999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omponent-based / event- driven framework </a:t>
              </a: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which includes a set of standard and reusable server-side  components that support multiple rendering option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Introduced as Java Specification Request (JSR) 127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330200" y="1793520"/>
              <a:ext cx="1320840" cy="763200"/>
              <a:chOff x="1330200" y="1793520"/>
              <a:chExt cx="1320840" cy="763200"/>
            </a:xfrm>
          </p:grpSpPr>
          <p:sp>
            <p:nvSpPr>
              <p:cNvPr id="218" name=""/>
              <p:cNvSpPr/>
              <p:nvPr/>
            </p:nvSpPr>
            <p:spPr>
              <a:xfrm>
                <a:off x="1330200" y="1793520"/>
                <a:ext cx="1320840" cy="76320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200"/>
                  <a:gd name="textAreaBottom" fmla="*/ 763560 h 76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19120" y="206748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Framework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1332000" y="4689360"/>
            <a:ext cx="7584480" cy="804600"/>
            <a:chOff x="1332000" y="4689360"/>
            <a:chExt cx="7584480" cy="804600"/>
          </a:xfrm>
        </p:grpSpPr>
        <p:sp>
          <p:nvSpPr>
            <p:cNvPr id="221" name=""/>
            <p:cNvSpPr/>
            <p:nvPr/>
          </p:nvSpPr>
          <p:spPr>
            <a:xfrm>
              <a:off x="2917800" y="4689360"/>
              <a:ext cx="5998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oncept is easy to understand and to us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Allows to access the hidden http-objects if necessary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No problem to create running prototyp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332000" y="4730400"/>
              <a:ext cx="1320480" cy="763560"/>
              <a:chOff x="1332000" y="4730400"/>
              <a:chExt cx="1320480" cy="763560"/>
            </a:xfrm>
          </p:grpSpPr>
          <p:sp>
            <p:nvSpPr>
              <p:cNvPr id="223" name=""/>
              <p:cNvSpPr/>
              <p:nvPr/>
            </p:nvSpPr>
            <p:spPr>
              <a:xfrm>
                <a:off x="1332000" y="473040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20560" y="479340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rototype experience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rototypes – JavaServer Faces</a:t>
            </a:r>
            <a:endParaRPr b="0" lang="en-US" sz="24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997360" y="2708280"/>
          <a:ext cx="400500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7360" y="2708280"/>
                    <a:ext cx="40050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30200" y="1762200"/>
            <a:ext cx="7585200" cy="795240"/>
            <a:chOff x="1330200" y="1762200"/>
            <a:chExt cx="7585200" cy="795240"/>
          </a:xfrm>
        </p:grpSpPr>
        <p:sp>
          <p:nvSpPr>
            <p:cNvPr id="231" name=""/>
            <p:cNvSpPr/>
            <p:nvPr/>
          </p:nvSpPr>
          <p:spPr>
            <a:xfrm>
              <a:off x="2916360" y="1762200"/>
              <a:ext cx="5999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omponent-based / event- driven open source framework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es standard HTML with a few special attributes and tag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233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19120" y="206820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Framework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332000" y="4734000"/>
            <a:ext cx="7584480" cy="1279080"/>
            <a:chOff x="1332000" y="4734000"/>
            <a:chExt cx="7584480" cy="1279080"/>
          </a:xfrm>
        </p:grpSpPr>
        <p:sp>
          <p:nvSpPr>
            <p:cNvPr id="236" name=""/>
            <p:cNvSpPr/>
            <p:nvPr/>
          </p:nvSpPr>
          <p:spPr>
            <a:xfrm>
              <a:off x="2917800" y="4734000"/>
              <a:ext cx="59986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Very abstract concept - completely hides the http protocol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ifficult to understand in the beginning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No problem to create running prototyp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332000" y="4775040"/>
              <a:ext cx="1320480" cy="763560"/>
              <a:chOff x="1332000" y="4775040"/>
              <a:chExt cx="1320480" cy="7635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32000" y="477504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0560" y="483804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rototype experience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rototypes – Tapestry</a:t>
            </a:r>
            <a:endParaRPr b="0" lang="en-US" sz="24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97360" y="2394000"/>
            <a:ext cx="41148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30200" y="1762200"/>
            <a:ext cx="7585200" cy="1492200"/>
            <a:chOff x="1330200" y="1762200"/>
            <a:chExt cx="7585200" cy="1492200"/>
          </a:xfrm>
        </p:grpSpPr>
        <p:sp>
          <p:nvSpPr>
            <p:cNvPr id="245" name=""/>
            <p:cNvSpPr/>
            <p:nvPr/>
          </p:nvSpPr>
          <p:spPr>
            <a:xfrm>
              <a:off x="2916360" y="1762200"/>
              <a:ext cx="599904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Publishing and web application open source framework for generating dynamic content using XML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Basic mechanism of the Cocoon architecture is the pipeline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data-generators, filters, transformers and renderers can be plugged together to form a processing pipelin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lies heavily on XML/XSLT (transformations)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19120" y="206820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Framework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332000" y="3743280"/>
            <a:ext cx="7584480" cy="1705320"/>
            <a:chOff x="1332000" y="3743280"/>
            <a:chExt cx="7584480" cy="1705320"/>
          </a:xfrm>
        </p:grpSpPr>
        <p:sp>
          <p:nvSpPr>
            <p:cNvPr id="250" name=""/>
            <p:cNvSpPr/>
            <p:nvPr/>
          </p:nvSpPr>
          <p:spPr>
            <a:xfrm>
              <a:off x="2917800" y="3743280"/>
              <a:ext cx="599868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ifficult to setup - not possible to create a running prototype in the given tim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Typical Cocoon application has a very high percentage of publishing and only a reduced percentage of data interactio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ata to be published should be already in XML-forma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Average Credit-Suisse application has a high percentage of data interactio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ata usually not in XML-forma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332000" y="3784320"/>
              <a:ext cx="1320480" cy="763560"/>
              <a:chOff x="1332000" y="3784320"/>
              <a:chExt cx="1320480" cy="763560"/>
            </a:xfrm>
          </p:grpSpPr>
          <p:sp>
            <p:nvSpPr>
              <p:cNvPr id="252" name=""/>
              <p:cNvSpPr/>
              <p:nvPr/>
            </p:nvSpPr>
            <p:spPr>
              <a:xfrm>
                <a:off x="1332000" y="378432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20560" y="384732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rototype experience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rototypes – Cocoon</a:t>
            </a:r>
            <a:endParaRPr b="0" lang="en-US" sz="2400" spc="-1" strike="noStrike">
              <a:solidFill>
                <a:srgbClr val="0099cc"/>
              </a:solidFill>
              <a:latin typeface="Akzidenz Grotesk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66400" y="410220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66400" y="410220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1720" y="414360"/>
            <a:ext cx="8013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rototypes Rating</a:t>
            </a:r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71640" y="1719360"/>
          <a:ext cx="6750000" cy="3251160"/>
        </p:xfrm>
        <a:graphic>
          <a:graphicData uri="http://schemas.openxmlformats.org/drawingml/2006/table">
            <a:tbl>
              <a:tblPr/>
              <a:tblGrid>
                <a:gridCol w="2562120"/>
                <a:gridCol w="817560"/>
                <a:gridCol w="766800"/>
                <a:gridCol w="758880"/>
                <a:gridCol w="873000"/>
                <a:gridCol w="971640"/>
              </a:tblGrid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a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c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pe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 Conform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Archite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28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ing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32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 Life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28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/ 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67640" y="5004000"/>
            <a:ext cx="5007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* it was not possible to create a running prototype in the given time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332000" y="3608280"/>
            <a:ext cx="7584480" cy="2557800"/>
            <a:chOff x="1332000" y="3608280"/>
            <a:chExt cx="7584480" cy="2557800"/>
          </a:xfrm>
        </p:grpSpPr>
        <p:sp>
          <p:nvSpPr>
            <p:cNvPr id="265" name=""/>
            <p:cNvSpPr/>
            <p:nvPr/>
          </p:nvSpPr>
          <p:spPr>
            <a:xfrm>
              <a:off x="2917800" y="3608280"/>
              <a:ext cx="599868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UI functionality could be implemented without problem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Runtim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Application runs stabl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JSF application was considerably slower than original application but all requests returned in less than two and half second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No memory leak but session size too big (</a:t>
              </a: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between 80 and 250 KB per view)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GUI Editor supports development and improve efficiency after a certain familiarization time (but have room for improvement)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Known IDE plug-ins have support for coding and configuration file editing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332000" y="3649680"/>
              <a:ext cx="1320480" cy="763560"/>
              <a:chOff x="1332000" y="3649680"/>
              <a:chExt cx="1320480" cy="76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332000" y="364968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20560" y="3924000"/>
                <a:ext cx="1209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Experience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330200" y="1762200"/>
            <a:ext cx="7585200" cy="1705320"/>
            <a:chOff x="1330200" y="1762200"/>
            <a:chExt cx="7585200" cy="1705320"/>
          </a:xfrm>
        </p:grpSpPr>
        <p:sp>
          <p:nvSpPr>
            <p:cNvPr id="270" name=""/>
            <p:cNvSpPr/>
            <p:nvPr/>
          </p:nvSpPr>
          <p:spPr>
            <a:xfrm>
              <a:off x="2916360" y="1762200"/>
              <a:ext cx="59990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Selected an application with a user interface of average complexity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placed the presentation of a part of a real application using JSF visual page editor of Websphere Site Developer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(WSSD)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Did not tune application and used default configuratio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id single request profiling to find out how much memory the JSF-environment stored in the http-sessio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ployed application to Java Application Platform Integration Test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an load- and performance test in Integration Test environmen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272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19120" y="196164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Building real 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Part of real application</a:t>
            </a:r>
            <a:endParaRPr b="0" lang="en-US" sz="24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150920" y="279360"/>
            <a:ext cx="5714640" cy="5809680"/>
            <a:chOff x="1150920" y="279360"/>
            <a:chExt cx="5714640" cy="58096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150920" y="279360"/>
              <a:ext cx="160020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208320" y="279360"/>
              <a:ext cx="159984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265720" y="279360"/>
              <a:ext cx="15998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2979720" y="1650960"/>
              <a:ext cx="2057400" cy="14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flipV="1">
              <a:off x="4236840" y="1422000"/>
              <a:ext cx="182880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122000" y="1422360"/>
              <a:ext cx="36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94000" y="507600"/>
              <a:ext cx="148572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5"/>
            <a:stretch/>
          </p:blipFill>
          <p:spPr>
            <a:xfrm>
              <a:off x="1150920" y="3251160"/>
              <a:ext cx="182880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"/>
            <a:stretch/>
          </p:blipFill>
          <p:spPr>
            <a:xfrm>
              <a:off x="3093840" y="3251160"/>
              <a:ext cx="1828800" cy="13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3093840" y="4737600"/>
              <a:ext cx="1828800" cy="13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5037120" y="3251160"/>
              <a:ext cx="1828440" cy="13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flipH="1">
              <a:off x="3894120" y="2679480"/>
              <a:ext cx="7995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9"/>
            <a:stretch/>
          </p:blipFill>
          <p:spPr>
            <a:xfrm>
              <a:off x="5037120" y="4737600"/>
              <a:ext cx="18284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 flipH="1">
              <a:off x="3779640" y="34797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94680" y="3479760"/>
              <a:ext cx="360" cy="12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408040" y="256500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8520" y="2793960"/>
              <a:ext cx="114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32000" y="3699000"/>
            <a:ext cx="7584480" cy="1065960"/>
            <a:chOff x="1332000" y="3699000"/>
            <a:chExt cx="7584480" cy="1065960"/>
          </a:xfrm>
        </p:grpSpPr>
        <p:sp>
          <p:nvSpPr>
            <p:cNvPr id="295" name=""/>
            <p:cNvSpPr/>
            <p:nvPr/>
          </p:nvSpPr>
          <p:spPr>
            <a:xfrm>
              <a:off x="2917800" y="3699000"/>
              <a:ext cx="59986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Already successfully used by several </a:t>
              </a: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applications within C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Applications are stable, have good response time, no negative impact on session siz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 facto standard but JSF makes up ground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oes not explicitly supports to offer reusable UI component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332000" y="3743280"/>
              <a:ext cx="1320480" cy="763200"/>
              <a:chOff x="1332000" y="3743280"/>
              <a:chExt cx="1320480" cy="763200"/>
            </a:xfrm>
          </p:grpSpPr>
          <p:sp>
            <p:nvSpPr>
              <p:cNvPr id="297" name=""/>
              <p:cNvSpPr/>
              <p:nvPr/>
            </p:nvSpPr>
            <p:spPr>
              <a:xfrm>
                <a:off x="1332000" y="3743280"/>
                <a:ext cx="1320480" cy="76320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200"/>
                  <a:gd name="textAreaBottom" fmla="*/ 763560 h 76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20560" y="4016880"/>
                <a:ext cx="1209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Apache Strut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1330200" y="1762200"/>
            <a:ext cx="7585200" cy="2557800"/>
            <a:chOff x="1330200" y="1762200"/>
            <a:chExt cx="7585200" cy="2557800"/>
          </a:xfrm>
        </p:grpSpPr>
        <p:sp>
          <p:nvSpPr>
            <p:cNvPr id="300" name=""/>
            <p:cNvSpPr/>
            <p:nvPr/>
          </p:nvSpPr>
          <p:spPr>
            <a:xfrm>
              <a:off x="2916360" y="1762200"/>
              <a:ext cx="59990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JavaServerFaces is the standard presentation framework for Java HTML UI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Explicitly supports to offer reusable UI component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More efficient presentation development possible because of tool integration suppor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velopment and runtime very stabl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Performance needs to be reassessed with more effort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No memory leak discovered but session size too big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Newer implementations already tuned, performance is goal for future development 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19120" y="196164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JavaServer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Face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1330200" y="4815000"/>
            <a:ext cx="7585200" cy="1065960"/>
            <a:chOff x="1330200" y="4815000"/>
            <a:chExt cx="7585200" cy="1065960"/>
          </a:xfrm>
        </p:grpSpPr>
        <p:sp>
          <p:nvSpPr>
            <p:cNvPr id="305" name=""/>
            <p:cNvSpPr/>
            <p:nvPr/>
          </p:nvSpPr>
          <p:spPr>
            <a:xfrm>
              <a:off x="2916360" y="4815000"/>
              <a:ext cx="59990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lease JavaServer Faces for a pilot project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assess performance with more efforts in the pilot projec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e configuration options and performance optimized implementation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Verify our experience with usability and development efficiency  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330200" y="4856040"/>
              <a:ext cx="1320840" cy="763560"/>
              <a:chOff x="1330200" y="4856040"/>
              <a:chExt cx="1320840" cy="763560"/>
            </a:xfrm>
          </p:grpSpPr>
          <p:sp>
            <p:nvSpPr>
              <p:cNvPr id="307" name=""/>
              <p:cNvSpPr/>
              <p:nvPr/>
            </p:nvSpPr>
            <p:spPr>
              <a:xfrm>
                <a:off x="1330200" y="485604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19120" y="502560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Recommen-dation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2800" y="469800"/>
            <a:ext cx="8013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RESULT</a:t>
            </a:r>
            <a:endParaRPr b="0" lang="en-US" sz="29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30200" y="3778200"/>
            <a:ext cx="7585200" cy="808200"/>
            <a:chOff x="1330200" y="3778200"/>
            <a:chExt cx="7585200" cy="808200"/>
          </a:xfrm>
        </p:grpSpPr>
        <p:sp>
          <p:nvSpPr>
            <p:cNvPr id="312" name=""/>
            <p:cNvSpPr/>
            <p:nvPr/>
          </p:nvSpPr>
          <p:spPr>
            <a:xfrm>
              <a:off x="2916360" y="3778200"/>
              <a:ext cx="5999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cide about the JSF implementation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Integrate into Java Application Platform 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330200" y="3822840"/>
              <a:ext cx="1320840" cy="763560"/>
              <a:chOff x="1330200" y="3822840"/>
              <a:chExt cx="1320840" cy="763560"/>
            </a:xfrm>
          </p:grpSpPr>
          <p:sp>
            <p:nvSpPr>
              <p:cNvPr id="314" name=""/>
              <p:cNvSpPr/>
              <p:nvPr/>
            </p:nvSpPr>
            <p:spPr>
              <a:xfrm>
                <a:off x="1330200" y="382284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19120" y="409680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Realization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1330200" y="1762200"/>
            <a:ext cx="7585200" cy="795240"/>
            <a:chOff x="1330200" y="1762200"/>
            <a:chExt cx="7585200" cy="795240"/>
          </a:xfrm>
        </p:grpSpPr>
        <p:sp>
          <p:nvSpPr>
            <p:cNvPr id="317" name=""/>
            <p:cNvSpPr/>
            <p:nvPr/>
          </p:nvSpPr>
          <p:spPr>
            <a:xfrm>
              <a:off x="2916360" y="1762200"/>
              <a:ext cx="5999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Verify experience with </a:t>
              </a: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usability and development efficiency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assess performance and session size with more efforts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reate the first set of reusable UI component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330200" y="1793880"/>
              <a:ext cx="1320840" cy="763560"/>
              <a:chOff x="1330200" y="1793880"/>
              <a:chExt cx="1320840" cy="763560"/>
            </a:xfrm>
          </p:grpSpPr>
          <p:sp>
            <p:nvSpPr>
              <p:cNvPr id="319" name=""/>
              <p:cNvSpPr/>
              <p:nvPr/>
            </p:nvSpPr>
            <p:spPr>
              <a:xfrm>
                <a:off x="1330200" y="17938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19120" y="2068200"/>
                <a:ext cx="120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ilot project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330200" y="4815000"/>
            <a:ext cx="7585200" cy="1279080"/>
            <a:chOff x="1330200" y="4815000"/>
            <a:chExt cx="7585200" cy="1279080"/>
          </a:xfrm>
        </p:grpSpPr>
        <p:sp>
          <p:nvSpPr>
            <p:cNvPr id="322" name=""/>
            <p:cNvSpPr/>
            <p:nvPr/>
          </p:nvSpPr>
          <p:spPr>
            <a:xfrm>
              <a:off x="2916360" y="4815000"/>
              <a:ext cx="599904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STC decision according to experience of pilot project and JSFs' position in the marke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reate reasonable set of reusable UI component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Build up support organization for framework and reusable UI component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Organize training  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330200" y="4856040"/>
              <a:ext cx="1320840" cy="763560"/>
              <a:chOff x="1330200" y="4856040"/>
              <a:chExt cx="1320840" cy="763560"/>
            </a:xfrm>
          </p:grpSpPr>
          <p:sp>
            <p:nvSpPr>
              <p:cNvPr id="324" name=""/>
              <p:cNvSpPr/>
              <p:nvPr/>
            </p:nvSpPr>
            <p:spPr>
              <a:xfrm>
                <a:off x="1330200" y="485604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19120" y="502560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Decision for standard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02800" y="469800"/>
            <a:ext cx="8013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NEXT STEPS</a:t>
            </a:r>
            <a:endParaRPr b="0" lang="en-US" sz="2900" spc="-1" strike="noStrike">
              <a:solidFill>
                <a:srgbClr val="0099cc"/>
              </a:solidFill>
              <a:latin typeface="Akzidenz Grotesk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0200" y="2747880"/>
            <a:ext cx="7585200" cy="804960"/>
            <a:chOff x="1330200" y="2747880"/>
            <a:chExt cx="7585200" cy="804960"/>
          </a:xfrm>
        </p:grpSpPr>
        <p:sp>
          <p:nvSpPr>
            <p:cNvPr id="328" name=""/>
            <p:cNvSpPr/>
            <p:nvPr/>
          </p:nvSpPr>
          <p:spPr>
            <a:xfrm>
              <a:off x="2916360" y="2747880"/>
              <a:ext cx="5999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reate guideline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Work out a coexistence and migration strategy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330200" y="2789280"/>
              <a:ext cx="1320840" cy="763560"/>
              <a:chOff x="1330200" y="2789280"/>
              <a:chExt cx="1320840" cy="763560"/>
            </a:xfrm>
          </p:grpSpPr>
          <p:sp>
            <p:nvSpPr>
              <p:cNvPr id="330" name=""/>
              <p:cNvSpPr/>
              <p:nvPr/>
            </p:nvSpPr>
            <p:spPr>
              <a:xfrm>
                <a:off x="1330200" y="2789280"/>
                <a:ext cx="1320840" cy="763560"/>
              </a:xfrm>
              <a:custGeom>
                <a:avLst/>
                <a:gdLst>
                  <a:gd name="textAreaLeft" fmla="*/ 0 w 1320840"/>
                  <a:gd name="textAreaRight" fmla="*/ 1320840 w 13208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19120" y="2957040"/>
                <a:ext cx="12099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Standardization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95320" y="1697040"/>
            <a:ext cx="7926480" cy="33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64"/>
              </a:spcBef>
              <a:buClr>
                <a:srgbClr val="0099cc"/>
              </a:buClr>
              <a:buSzPct val="120000"/>
              <a:buFont typeface="Akzidenz Grotesk Roman"/>
              <a:buAutoNum type="arabicPeriod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zidenz Grotesk Roman"/>
              </a:rPr>
              <a:t>CURRENT SITUATION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  <a:p>
            <a:pPr marL="343080" indent="-343080">
              <a:spcBef>
                <a:spcPts val="2064"/>
              </a:spcBef>
              <a:buClr>
                <a:srgbClr val="0099cc"/>
              </a:buClr>
              <a:buSzPct val="120000"/>
              <a:buFont typeface="Akzidenz Grotesk Roman"/>
              <a:buAutoNum type="arabicPeriod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zidenz Grotesk Roman"/>
              </a:rPr>
              <a:t>TECHNOLOGY STUDY SETUP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  <a:p>
            <a:pPr marL="343080" indent="-343080">
              <a:spcBef>
                <a:spcPts val="2064"/>
              </a:spcBef>
              <a:buClr>
                <a:srgbClr val="0099cc"/>
              </a:buClr>
              <a:buSzPct val="120000"/>
              <a:buFont typeface="Akzidenz Grotesk Roman"/>
              <a:buAutoNum type="arabicPeriod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zidenz Grotesk Roman"/>
              </a:rPr>
              <a:t>EVALUATION CRITERIA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  <a:p>
            <a:pPr marL="343080" indent="-343080">
              <a:spcBef>
                <a:spcPts val="2064"/>
              </a:spcBef>
              <a:buClr>
                <a:srgbClr val="0099cc"/>
              </a:buClr>
              <a:buSzPct val="120000"/>
              <a:buFont typeface="Akzidenz Grotesk Roman"/>
              <a:buAutoNum type="arabicPeriod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zidenz Grotesk Roman"/>
              </a:rPr>
              <a:t>EVALUATION STEPS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  <a:p>
            <a:pPr marL="343080" indent="-343080">
              <a:spcBef>
                <a:spcPts val="2064"/>
              </a:spcBef>
              <a:buClr>
                <a:srgbClr val="0099cc"/>
              </a:buClr>
              <a:buSzPct val="120000"/>
              <a:buFont typeface="Akzidenz Grotesk Roman"/>
              <a:buAutoNum type="arabicPeriod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zidenz Grotesk Roman"/>
              </a:rPr>
              <a:t>RESULT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  <a:p>
            <a:pPr marL="343080" indent="-343080">
              <a:spcBef>
                <a:spcPts val="2064"/>
              </a:spcBef>
              <a:buClr>
                <a:srgbClr val="0099cc"/>
              </a:buClr>
              <a:buSzPct val="120000"/>
              <a:buFont typeface="Akzidenz Grotesk Roman"/>
              <a:buAutoNum type="arabicPeriod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zidenz Grotesk Roman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14400" y="525600"/>
            <a:ext cx="8013600" cy="3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99cc"/>
                </a:solidFill>
                <a:latin typeface="Akzidenz Grotesk Roman"/>
              </a:rPr>
              <a:t>CONTENT</a:t>
            </a: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7000" y="1763640"/>
            <a:ext cx="951120" cy="3930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4824360"/>
            <a:ext cx="7584480" cy="1065960"/>
            <a:chOff x="1332000" y="4824360"/>
            <a:chExt cx="7584480" cy="1065960"/>
          </a:xfrm>
        </p:grpSpPr>
        <p:sp>
          <p:nvSpPr>
            <p:cNvPr id="88" name=""/>
            <p:cNvSpPr/>
            <p:nvPr/>
          </p:nvSpPr>
          <p:spPr>
            <a:xfrm>
              <a:off x="2917800" y="4824360"/>
              <a:ext cx="59986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Technology study in cooperation with application developmen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cision of steering committee architecture to start pilot project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Pilot project and experience repor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cision of steering committee architecture to establish standard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332000" y="4869000"/>
              <a:ext cx="1320480" cy="763560"/>
              <a:chOff x="1332000" y="4869000"/>
              <a:chExt cx="1320480" cy="763560"/>
            </a:xfrm>
          </p:grpSpPr>
          <p:sp>
            <p:nvSpPr>
              <p:cNvPr id="90" name=""/>
              <p:cNvSpPr/>
              <p:nvPr/>
            </p:nvSpPr>
            <p:spPr>
              <a:xfrm>
                <a:off x="1332000" y="486900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20560" y="5036760"/>
                <a:ext cx="1209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Steps toward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a standard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1332000" y="3384720"/>
            <a:ext cx="7584480" cy="1279080"/>
            <a:chOff x="1332000" y="3384720"/>
            <a:chExt cx="7584480" cy="1279080"/>
          </a:xfrm>
        </p:grpSpPr>
        <p:sp>
          <p:nvSpPr>
            <p:cNvPr id="93" name=""/>
            <p:cNvSpPr/>
            <p:nvPr/>
          </p:nvSpPr>
          <p:spPr>
            <a:xfrm>
              <a:off x="2917800" y="3384720"/>
              <a:ext cx="59986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5 </a:t>
              </a: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Credit Suisse internally developed web presentation framework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7 applications use Apache Struts, 1 Cocoon, 1 Template Renderer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sually no development tool in addition to IDE used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UI component reuse within same framework or applicatio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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Broader UI component reuse difficul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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Presentation application development not very efficient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332000" y="3425760"/>
              <a:ext cx="1320480" cy="763200"/>
              <a:chOff x="1332000" y="3425760"/>
              <a:chExt cx="1320480" cy="763200"/>
            </a:xfrm>
          </p:grpSpPr>
          <p:sp>
            <p:nvSpPr>
              <p:cNvPr id="95" name=""/>
              <p:cNvSpPr/>
              <p:nvPr/>
            </p:nvSpPr>
            <p:spPr>
              <a:xfrm>
                <a:off x="1332000" y="3425760"/>
                <a:ext cx="1320480" cy="76320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200"/>
                  <a:gd name="textAreaBottom" fmla="*/ 763560 h 76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0560" y="348660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Used UI technologies   in C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1332000" y="1763640"/>
            <a:ext cx="7584480" cy="1492200"/>
            <a:chOff x="1332000" y="1763640"/>
            <a:chExt cx="7584480" cy="1492200"/>
          </a:xfrm>
        </p:grpSpPr>
        <p:sp>
          <p:nvSpPr>
            <p:cNvPr id="98" name=""/>
            <p:cNvSpPr/>
            <p:nvPr/>
          </p:nvSpPr>
          <p:spPr>
            <a:xfrm>
              <a:off x="2917800" y="1763640"/>
              <a:ext cx="59986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Application platform: Set of integrated technical components and processes for the development and operation of similar application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Java Application Platform (JAP) defines </a:t>
              </a: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architecture and programming guidelines for HTML presentation layer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Applications use the Servlet API and Java Server Page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kzidenz Grotesk Roman"/>
                </a:rPr>
                <a:t>Design has to follow the Model 2 MVC design patter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No standard presentation framework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332000" y="1795320"/>
              <a:ext cx="1320480" cy="763560"/>
              <a:chOff x="1332000" y="1795320"/>
              <a:chExt cx="1320480" cy="763560"/>
            </a:xfrm>
          </p:grpSpPr>
          <p:sp>
            <p:nvSpPr>
              <p:cNvPr id="100" name=""/>
              <p:cNvSpPr/>
              <p:nvPr/>
            </p:nvSpPr>
            <p:spPr>
              <a:xfrm>
                <a:off x="1332000" y="179532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20560" y="185652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Standards 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in C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2800" y="469800"/>
            <a:ext cx="8013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CURRENT SITUATION</a:t>
            </a:r>
            <a:endParaRPr b="0" lang="en-US" sz="29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32000" y="4815000"/>
            <a:ext cx="7584480" cy="852840"/>
            <a:chOff x="1332000" y="4815000"/>
            <a:chExt cx="7584480" cy="852840"/>
          </a:xfrm>
        </p:grpSpPr>
        <p:sp>
          <p:nvSpPr>
            <p:cNvPr id="105" name=""/>
            <p:cNvSpPr/>
            <p:nvPr/>
          </p:nvSpPr>
          <p:spPr>
            <a:xfrm>
              <a:off x="2917800" y="4815000"/>
              <a:ext cx="59986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placed the presentation of a part of a real application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ployed application to Java Application Platform Integration Test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an load- and performance test in Integration Test environmen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332000" y="4859280"/>
              <a:ext cx="1320480" cy="763200"/>
              <a:chOff x="1332000" y="4859280"/>
              <a:chExt cx="1320480" cy="763200"/>
            </a:xfrm>
          </p:grpSpPr>
          <p:sp>
            <p:nvSpPr>
              <p:cNvPr id="107" name=""/>
              <p:cNvSpPr/>
              <p:nvPr/>
            </p:nvSpPr>
            <p:spPr>
              <a:xfrm>
                <a:off x="1332000" y="4859280"/>
                <a:ext cx="1320480" cy="76320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200"/>
                  <a:gd name="textAreaBottom" fmla="*/ 763560 h 76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20560" y="491976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Replace part of real application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332000" y="3784680"/>
            <a:ext cx="7584480" cy="804960"/>
            <a:chOff x="1332000" y="3784680"/>
            <a:chExt cx="7584480" cy="804960"/>
          </a:xfrm>
        </p:grpSpPr>
        <p:sp>
          <p:nvSpPr>
            <p:cNvPr id="110" name=""/>
            <p:cNvSpPr/>
            <p:nvPr/>
          </p:nvSpPr>
          <p:spPr>
            <a:xfrm>
              <a:off x="2917800" y="3784680"/>
              <a:ext cx="5998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Built the same prototype with each selected framework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ated the frameworks according to prototype experienc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Selected 1 framework to verify the rating with a real application  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332000" y="3826080"/>
              <a:ext cx="1320480" cy="763560"/>
              <a:chOff x="1332000" y="3826080"/>
              <a:chExt cx="1320480" cy="763560"/>
            </a:xfrm>
          </p:grpSpPr>
          <p:sp>
            <p:nvSpPr>
              <p:cNvPr id="112" name=""/>
              <p:cNvSpPr/>
              <p:nvPr/>
            </p:nvSpPr>
            <p:spPr>
              <a:xfrm>
                <a:off x="1332000" y="382608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20560" y="4100400"/>
                <a:ext cx="1209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rototype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332000" y="2798640"/>
            <a:ext cx="7584480" cy="1279080"/>
            <a:chOff x="1332000" y="2798640"/>
            <a:chExt cx="7584480" cy="1279080"/>
          </a:xfrm>
        </p:grpSpPr>
        <p:sp>
          <p:nvSpPr>
            <p:cNvPr id="115" name=""/>
            <p:cNvSpPr/>
            <p:nvPr/>
          </p:nvSpPr>
          <p:spPr>
            <a:xfrm>
              <a:off x="2917800" y="2798640"/>
              <a:ext cx="59986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ollected candidate framework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moved frameworks which are dead, unfinished or have wrong scop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ated the frameworks according to information available on Internet/Intrane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Selected 4 frameworks to build a prototype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332000" y="2830320"/>
              <a:ext cx="1320480" cy="763560"/>
              <a:chOff x="1332000" y="2830320"/>
              <a:chExt cx="1320480" cy="763560"/>
            </a:xfrm>
          </p:grpSpPr>
          <p:sp>
            <p:nvSpPr>
              <p:cNvPr id="117" name=""/>
              <p:cNvSpPr/>
              <p:nvPr/>
            </p:nvSpPr>
            <p:spPr>
              <a:xfrm>
                <a:off x="1332000" y="283032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0560" y="2998080"/>
                <a:ext cx="1209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Internet research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2800" y="469800"/>
            <a:ext cx="8013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TECHNOLOGY STUDY SETUP</a:t>
            </a:r>
            <a:endParaRPr b="0" lang="en-US" sz="2900" spc="-1" strike="noStrike">
              <a:solidFill>
                <a:srgbClr val="0099cc"/>
              </a:solidFill>
              <a:latin typeface="Akzidenz Grotesk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32000" y="1763640"/>
            <a:ext cx="7584480" cy="852840"/>
            <a:chOff x="1332000" y="1763640"/>
            <a:chExt cx="7584480" cy="852840"/>
          </a:xfrm>
        </p:grpSpPr>
        <p:sp>
          <p:nvSpPr>
            <p:cNvPr id="121" name=""/>
            <p:cNvSpPr/>
            <p:nvPr/>
          </p:nvSpPr>
          <p:spPr>
            <a:xfrm>
              <a:off x="2917800" y="1763640"/>
              <a:ext cx="59986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fined criteria groups (e.g. standard conformity, performance/stability)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fined relative weight of each criteria group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efined single criteria and how to rate the framework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332000" y="1808280"/>
              <a:ext cx="1320480" cy="763560"/>
              <a:chOff x="1332000" y="1808280"/>
              <a:chExt cx="1320480" cy="763560"/>
            </a:xfrm>
          </p:grpSpPr>
          <p:sp>
            <p:nvSpPr>
              <p:cNvPr id="123" name=""/>
              <p:cNvSpPr/>
              <p:nvPr/>
            </p:nvSpPr>
            <p:spPr>
              <a:xfrm>
                <a:off x="1332000" y="180828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20560" y="1976040"/>
                <a:ext cx="1209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Evaluation criteria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66400" y="410220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7000" y="1763640"/>
          <a:ext cx="6389280" cy="2025360"/>
        </p:xfrm>
        <a:graphic>
          <a:graphicData uri="http://schemas.openxmlformats.org/drawingml/2006/table">
            <a:tbl>
              <a:tblPr/>
              <a:tblGrid>
                <a:gridCol w="2078280"/>
                <a:gridCol w="1437120"/>
                <a:gridCol w="1436760"/>
                <a:gridCol w="1437120"/>
              </a:tblGrid>
              <a:tr h="2246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a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se I 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se II 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 Conform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00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Archite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46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ing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 Life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00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46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/ 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-266400" y="410220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1720" y="414360"/>
            <a:ext cx="8013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CRITEREA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924360"/>
            <a:ext cx="80107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spcBef>
                <a:spcPts val="876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Standard Conformity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J2EE specification, Credit Suisse Standards (Architecture, UI, Infrastructure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876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Framework Architecture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t</a:t>
            </a:r>
            <a:r>
              <a:rPr b="0" lang="en-GB" sz="1400" spc="-1" strike="noStrike">
                <a:solidFill>
                  <a:srgbClr val="000000"/>
                </a:solidFill>
                <a:latin typeface="Akzidenz Grotesk Roman"/>
              </a:rPr>
              <a:t>emplate languages, flexibility / Integrability, configurability, ...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1125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Framework Features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kzidenz Grotesk Roman"/>
              </a:rPr>
              <a:t>i18n, form validation, error handling, reusable widgets, ...</a:t>
            </a:r>
            <a:r>
              <a:rPr b="0" lang="en-GB" sz="18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876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Supporting Tools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 efficiency /quality - g</a:t>
            </a:r>
            <a:r>
              <a:rPr b="0" lang="en-GB" sz="1400" spc="-1" strike="noStrike">
                <a:solidFill>
                  <a:srgbClr val="000000"/>
                </a:solidFill>
                <a:latin typeface="Akzidenz Grotesk Roman"/>
              </a:rPr>
              <a:t>enerators, IDE integration, unit tests, metadata validation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876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Product Lifecycle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kzidenz Grotesk Roman"/>
              </a:rPr>
              <a:t>documentation, maturity, acceptance, supplier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876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Development Process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kzidenz Grotesk Roman"/>
              </a:rPr>
              <a:t>efficiency, learning curve, design/dev. separation, sub-application separation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876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kzidenz Grotesk Roman"/>
              </a:rPr>
              <a:t>Performance / Stability:</a:t>
            </a:r>
            <a:r>
              <a:rPr b="0" lang="en-US" sz="1400" spc="-1" strike="noStrike">
                <a:solidFill>
                  <a:srgbClr val="000000"/>
                </a:solidFill>
                <a:latin typeface="Akzidenz Grotesk Roman"/>
              </a:rPr>
              <a:t> hundreds or thousands of concurrent users / continuous availability 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59240" y="1224000"/>
            <a:ext cx="1964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 Grotesk Roman"/>
              </a:rPr>
              <a:t>Phase I: Internet Research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lnSpc>
                <a:spcPct val="94000"/>
              </a:lnSpc>
              <a:spcBef>
                <a:spcPts val="751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 Grotesk Roman"/>
              </a:rPr>
              <a:t>Phase II: Prototypes 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66400" y="410220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266400" y="410220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1720" y="414360"/>
            <a:ext cx="8013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900" spc="-1" strike="noStrike">
                <a:solidFill>
                  <a:srgbClr val="0099cc"/>
                </a:solidFill>
                <a:latin typeface="Akzidenz Grotesk Roman"/>
              </a:rPr>
              <a:t>EVALUATION CRITEREA </a:t>
            </a:r>
            <a:br>
              <a:rPr sz="2900"/>
            </a:br>
            <a:r>
              <a:rPr b="0" lang="en-US" sz="2400" spc="-1" strike="noStrike">
                <a:solidFill>
                  <a:srgbClr val="0099cc"/>
                </a:solidFill>
                <a:latin typeface="Akzidenz Grotesk Roman"/>
              </a:rPr>
              <a:t>Single criteria</a:t>
            </a:r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0680" y="400212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320" y="3338640"/>
            <a:ext cx="6237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kzidenz Grotesk Roman"/>
              </a:rPr>
              <a:t>The single criteria are rated with 0 to 10 points according to defined levels</a:t>
            </a:r>
            <a:r>
              <a:rPr b="0" lang="de-CH" sz="18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3360" y="3924360"/>
            <a:ext cx="3138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 Grotesk Roman"/>
              </a:rPr>
              <a:t>Rating of CS Environment conformity </a:t>
            </a:r>
            <a:endParaRPr b="0" lang="en-US" sz="1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27000" y="1763640"/>
          <a:ext cx="6389640" cy="1287360"/>
        </p:xfrm>
        <a:graphic>
          <a:graphicData uri="http://schemas.openxmlformats.org/drawingml/2006/table">
            <a:tbl>
              <a:tblPr/>
              <a:tblGrid>
                <a:gridCol w="2878200"/>
                <a:gridCol w="1755720"/>
                <a:gridCol w="175572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a Standard Conform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se I 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se II 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820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2EE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856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I Reference  Archite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964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 Guideli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7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930680" y="3918240"/>
            <a:ext cx="57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27000" y="4238640"/>
          <a:ext cx="6389640" cy="1592280"/>
        </p:xfrm>
        <a:graphic>
          <a:graphicData uri="http://schemas.openxmlformats.org/drawingml/2006/table">
            <a:tbl>
              <a:tblPr/>
              <a:tblGrid>
                <a:gridCol w="1035000"/>
                <a:gridCol w="4319640"/>
                <a:gridCol w="1035000"/>
              </a:tblGrid>
              <a:tr h="312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= JAP 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framework runs on JAP 2.1 respectively WLS 6.1 / JDK 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= JAP 3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framework runs on WLS 8.1 / JDK 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pat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framework does not run on WLS respectively is not independent of a certain application server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8640"/>
                          <a:tab algn="l" pos="1457280"/>
                          <a:tab algn="l" pos="2185920"/>
                          <a:tab algn="l" pos="2914560"/>
                          <a:tab algn="l" pos="3643200"/>
                          <a:tab algn="l" pos="4371840"/>
                          <a:tab algn="l" pos="5100480"/>
                          <a:tab algn="l" pos="5829480"/>
                          <a:tab algn="l" pos="6558120"/>
                          <a:tab algn="l" pos="7286760"/>
                          <a:tab algn="l" pos="8015400"/>
                          <a:tab algn="l" pos="8744040"/>
                          <a:tab algn="l" pos="9472680"/>
                          <a:tab algn="l" pos="10201320"/>
                          <a:tab algn="l" pos="1092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32000" y="2619360"/>
            <a:ext cx="7584480" cy="3685320"/>
            <a:chOff x="1332000" y="2619360"/>
            <a:chExt cx="7584480" cy="3685320"/>
          </a:xfrm>
        </p:grpSpPr>
        <p:sp>
          <p:nvSpPr>
            <p:cNvPr id="146" name=""/>
            <p:cNvSpPr/>
            <p:nvPr/>
          </p:nvSpPr>
          <p:spPr>
            <a:xfrm>
              <a:off x="2917800" y="2619360"/>
              <a:ext cx="5998680" cy="36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Wafer: research project which compares open source web framework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200" spc="-1" strike="noStrike" u="sng">
                  <a:solidFill>
                    <a:srgbClr val="99ccff"/>
                  </a:solidFill>
                  <a:uFillTx/>
                  <a:latin typeface="Akzidenz Grotesk Roman"/>
                  <a:hlinkClick r:id="rId1"/>
                </a:rPr>
                <a:t>http://</a:t>
              </a:r>
              <a:r>
                <a:rPr b="0" lang="en-US" sz="1200" spc="-1" strike="noStrike" u="sng">
                  <a:solidFill>
                    <a:srgbClr val="99ccff"/>
                  </a:solidFill>
                  <a:uFillTx/>
                  <a:latin typeface="Akzidenz Grotesk Roman"/>
                  <a:hlinkClick r:id="rId2"/>
                </a:rPr>
                <a:t>www.waferproject.org/index.html</a:t>
              </a:r>
              <a:endParaRPr b="0" lang="en-US" sz="12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Frameworks-Boulder.org: local users group focused on discovery / discussion of web framework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200" spc="-1" strike="noStrike" u="sng">
                  <a:solidFill>
                    <a:srgbClr val="99ccff"/>
                  </a:solidFill>
                  <a:uFillTx/>
                  <a:latin typeface="Akzidenz Grotesk Roman"/>
                  <a:hlinkClick r:id="rId3"/>
                </a:rPr>
                <a:t>http://www.frameworks-boulder.org</a:t>
              </a:r>
              <a:endParaRPr b="0" lang="en-US" sz="12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JavaOne 2003 presentation "Navigating the Application Development Frameworks Terrain" </a:t>
              </a: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200" spc="-1" strike="noStrike" u="sng">
                  <a:solidFill>
                    <a:srgbClr val="99ccff"/>
                  </a:solidFill>
                  <a:uFillTx/>
                  <a:latin typeface="Akzidenz Grotesk Roman"/>
                  <a:hlinkClick r:id="rId4"/>
                </a:rPr>
                <a:t>http://mvc2frameworks.org/</a:t>
              </a:r>
              <a:endParaRPr b="0" lang="en-US" sz="12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sources for Java server-side developer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200" spc="-1" strike="noStrike" u="sng">
                  <a:solidFill>
                    <a:srgbClr val="99ccff"/>
                  </a:solidFill>
                  <a:uFillTx/>
                  <a:latin typeface="Akzidenz Grotesk Roman"/>
                  <a:hlinkClick r:id="rId5"/>
                </a:rPr>
                <a:t>http://www.java201.com/resources/subjects/web_application_frameworks.html</a:t>
              </a:r>
              <a:endParaRPr b="0" lang="en-US" sz="12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The Serverside</a:t>
              </a:r>
              <a:r>
                <a:rPr b="1" lang="en-US" sz="14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200" spc="-1" strike="noStrike" u="sng">
                  <a:solidFill>
                    <a:srgbClr val="99ccff"/>
                  </a:solidFill>
                  <a:uFillTx/>
                  <a:latin typeface="Akzidenz Grotesk Roman"/>
                  <a:hlinkClick r:id="rId6"/>
                </a:rPr>
                <a:t>http://www.theserverside.com/articles/</a:t>
              </a:r>
              <a:endParaRPr b="0" lang="en-US" sz="12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Book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lvl="1" marL="574560" indent="-188640">
                <a:buClr>
                  <a:srgbClr val="000000"/>
                </a:buClr>
                <a:buSzPct val="120000"/>
                <a:buFont typeface="Akzidenz Grotesk Roman"/>
                <a:buChar char="–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kzidenz Grotesk Roman"/>
                </a:rPr>
                <a:t>Neal Ford - Art of Java Web Development, </a:t>
              </a:r>
              <a:r>
                <a:rPr b="0" lang="en-GB" sz="1200" spc="-1" strike="noStrike">
                  <a:solidFill>
                    <a:srgbClr val="000000"/>
                  </a:solidFill>
                  <a:latin typeface="Akzidenz Grotesk Roman"/>
                </a:rPr>
                <a:t>Howard M. Lewis Ship - Tapestry in Action, Kito D. Mann- JavaServer Faces in Action, Ted N. Husted, Cedric Dumoulin, George Franciscus, David Winterfeldt - Struts in Action, By Hans Bergsten - JavaServer Faces </a:t>
              </a:r>
              <a:r>
                <a:rPr b="0" lang="de-CH" sz="12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332000" y="2651040"/>
              <a:ext cx="1320480" cy="763560"/>
              <a:chOff x="1332000" y="2651040"/>
              <a:chExt cx="1320480" cy="763560"/>
            </a:xfrm>
          </p:grpSpPr>
          <p:sp>
            <p:nvSpPr>
              <p:cNvPr id="148" name=""/>
              <p:cNvSpPr/>
              <p:nvPr/>
            </p:nvSpPr>
            <p:spPr>
              <a:xfrm>
                <a:off x="1332000" y="265104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20560" y="2818800"/>
                <a:ext cx="1209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Information source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332000" y="1763640"/>
            <a:ext cx="7584480" cy="852840"/>
            <a:chOff x="1332000" y="1763640"/>
            <a:chExt cx="7584480" cy="852840"/>
          </a:xfrm>
        </p:grpSpPr>
        <p:sp>
          <p:nvSpPr>
            <p:cNvPr id="151" name=""/>
            <p:cNvSpPr/>
            <p:nvPr/>
          </p:nvSpPr>
          <p:spPr>
            <a:xfrm>
              <a:off x="2917800" y="1763640"/>
              <a:ext cx="59986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Original list of frameworks with more than 30 candidate frameworks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emoved frameworks which are dead or unfinished or have wrong scop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Rated 16 candidate framework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332000" y="1808280"/>
              <a:ext cx="1320480" cy="763560"/>
              <a:chOff x="1332000" y="1808280"/>
              <a:chExt cx="1320480" cy="763560"/>
            </a:xfrm>
          </p:grpSpPr>
          <p:sp>
            <p:nvSpPr>
              <p:cNvPr id="153" name=""/>
              <p:cNvSpPr/>
              <p:nvPr/>
            </p:nvSpPr>
            <p:spPr>
              <a:xfrm>
                <a:off x="1332000" y="180828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20560" y="1976040"/>
                <a:ext cx="1209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Internet research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600"/>
            </a:b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Internet research</a:t>
            </a: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0880" y="1757520"/>
            <a:ext cx="950760" cy="3930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32000" y="4554360"/>
            <a:ext cx="7584480" cy="1065960"/>
            <a:chOff x="1332000" y="4554360"/>
            <a:chExt cx="7584480" cy="1065960"/>
          </a:xfrm>
        </p:grpSpPr>
        <p:sp>
          <p:nvSpPr>
            <p:cNvPr id="158" name=""/>
            <p:cNvSpPr/>
            <p:nvPr/>
          </p:nvSpPr>
          <p:spPr>
            <a:xfrm>
              <a:off x="2917800" y="4554360"/>
              <a:ext cx="59986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Focus on presenting data to the client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Although they usually contain also input or form processing elements they concentrate on filtering, concentrating, enriching and formatting data from some data source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332000" y="4599000"/>
              <a:ext cx="1320480" cy="763560"/>
              <a:chOff x="1332000" y="4599000"/>
              <a:chExt cx="1320480" cy="763560"/>
            </a:xfrm>
          </p:grpSpPr>
          <p:sp>
            <p:nvSpPr>
              <p:cNvPr id="160" name=""/>
              <p:cNvSpPr/>
              <p:nvPr/>
            </p:nvSpPr>
            <p:spPr>
              <a:xfrm>
                <a:off x="1332000" y="459900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20560" y="4766760"/>
                <a:ext cx="1209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ublishing framework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1332000" y="3159000"/>
            <a:ext cx="7584480" cy="1065960"/>
            <a:chOff x="1332000" y="3159000"/>
            <a:chExt cx="7584480" cy="1065960"/>
          </a:xfrm>
        </p:grpSpPr>
        <p:sp>
          <p:nvSpPr>
            <p:cNvPr id="163" name=""/>
            <p:cNvSpPr/>
            <p:nvPr/>
          </p:nvSpPr>
          <p:spPr>
            <a:xfrm>
              <a:off x="2917800" y="3159000"/>
              <a:ext cx="59986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omponent-based / event- driven framework focus on the front-end or display and aim to make the generation of the GUI easier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Typically provide some form of reusable GUI components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Hide the fundamental request / response nature of HTTP, programming feels more like Swing based GUI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332000" y="3190680"/>
              <a:ext cx="1320480" cy="763560"/>
              <a:chOff x="1332000" y="3190680"/>
              <a:chExt cx="1320480" cy="763560"/>
            </a:xfrm>
          </p:grpSpPr>
          <p:sp>
            <p:nvSpPr>
              <p:cNvPr id="165" name=""/>
              <p:cNvSpPr/>
              <p:nvPr/>
            </p:nvSpPr>
            <p:spPr>
              <a:xfrm>
                <a:off x="1332000" y="319068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20560" y="325188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Comp. based 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/event driven framework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332000" y="1763640"/>
            <a:ext cx="7584480" cy="1279080"/>
            <a:chOff x="1332000" y="1763640"/>
            <a:chExt cx="7584480" cy="1279080"/>
          </a:xfrm>
        </p:grpSpPr>
        <p:sp>
          <p:nvSpPr>
            <p:cNvPr id="168" name=""/>
            <p:cNvSpPr/>
            <p:nvPr/>
          </p:nvSpPr>
          <p:spPr>
            <a:xfrm>
              <a:off x="2917800" y="1763640"/>
              <a:ext cx="59986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Concentrate on given web application structure (Model 2 pattern)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Provide help with the structural aspects of the application including navigation, resource management, templating, internationalization, etc.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  <a:p>
              <a:pPr marL="195120" indent="-195120">
                <a:buClr>
                  <a:srgbClr val="0099cc"/>
                </a:buClr>
                <a:buSzPct val="120000"/>
                <a:buFont typeface="Wingdings" charset="2"/>
                <a:buChar char=""/>
                <a:tabLst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kzidenz Grotesk Roman"/>
                </a:rPr>
                <a:t>Do not hide the fundamental concepts of the  request/response nature of HTTP</a:t>
              </a:r>
              <a:r>
                <a:rPr b="0" lang="de-CH" sz="1400" spc="-1" strike="noStrike">
                  <a:solidFill>
                    <a:srgbClr val="000000"/>
                  </a:solidFill>
                  <a:latin typeface="Akzidenz Grotesk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kzidenz Grotesk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332000" y="1808280"/>
              <a:ext cx="1320480" cy="763560"/>
              <a:chOff x="1332000" y="1808280"/>
              <a:chExt cx="1320480" cy="763560"/>
            </a:xfrm>
          </p:grpSpPr>
          <p:sp>
            <p:nvSpPr>
              <p:cNvPr id="170" name=""/>
              <p:cNvSpPr/>
              <p:nvPr/>
            </p:nvSpPr>
            <p:spPr>
              <a:xfrm>
                <a:off x="1332000" y="1808280"/>
                <a:ext cx="1320480" cy="76356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2" y="0"/>
                    </a:lnTo>
                    <a:lnTo>
                      <a:pt x="21600" y="10800"/>
                    </a:lnTo>
                    <a:lnTo>
                      <a:pt x="1895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20560" y="1869480"/>
                <a:ext cx="120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1400" spc="-1" strike="noStrike">
                    <a:solidFill>
                      <a:srgbClr val="0099cc"/>
                    </a:solidFill>
                    <a:latin typeface="Akzidenz Grotesk Roman"/>
                  </a:rPr>
                  <a:t>Page /action oriented frameworks</a:t>
                </a:r>
                <a:endParaRPr b="0" lang="en-US" sz="1400" spc="-1" strike="noStrike">
                  <a:solidFill>
                    <a:srgbClr val="000000"/>
                  </a:solidFill>
                  <a:latin typeface="Akzidenz Grotesk Roman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600"/>
            </a:b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Internet research – Framework types</a:t>
            </a: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880920" y="1538280"/>
          <a:ext cx="7785360" cy="1346040"/>
        </p:xfrm>
        <a:graphic>
          <a:graphicData uri="http://schemas.openxmlformats.org/drawingml/2006/table">
            <a:tbl>
              <a:tblPr/>
              <a:tblGrid>
                <a:gridCol w="2970360"/>
                <a:gridCol w="4815000"/>
              </a:tblGrid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resent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e / action oriented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ts / Maverick / Web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-based / event driven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vaServerFaces / Tapestry / Echo / Millstone / Barracuda / JPublish / W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ing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co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late eng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ty / WebMacro / FreeMarker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so / Turbine / Ke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 Framework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lati / Japple / JaxFront / JStateMachine / Spring / Apple WebObjec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d or unfinished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on Servlet / Bento / Bishop / Niggle / Tea Servlet / Ri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880920" y="3519360"/>
          <a:ext cx="7785360" cy="673200"/>
        </p:xfrm>
        <a:graphic>
          <a:graphicData uri="http://schemas.openxmlformats.org/drawingml/2006/table">
            <a:tbl>
              <a:tblPr/>
              <a:tblGrid>
                <a:gridCol w="2970360"/>
                <a:gridCol w="4815000"/>
              </a:tblGrid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resent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e / action oriented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ts / Maverick / Web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-based / event driven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vaServerFaces / Tapestry / Echo / Millstone / Barracuda / JPublish / W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ing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co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880920" y="5273640"/>
          <a:ext cx="7785360" cy="673200"/>
        </p:xfrm>
        <a:graphic>
          <a:graphicData uri="http://schemas.openxmlformats.org/drawingml/2006/table">
            <a:tbl>
              <a:tblPr/>
              <a:tblGrid>
                <a:gridCol w="2970360"/>
                <a:gridCol w="481500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mework 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resent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e / action oriented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-based / event driven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vaServerFaces / Tapes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ing framewo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co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kzidenz Grotesk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86280" y="297828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6280" y="459900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00680" y="3024360"/>
            <a:ext cx="431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Removed frameworks which are dead or unfinished or have 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wrong scope (template engines, application frameworks, ...)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200" y="4238640"/>
            <a:ext cx="4869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Internet research with: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kzidenz Grotesk Roman"/>
              </a:rPr>
              <a:t>Page/Action oriented frameworks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kzidenz Grotesk Roman"/>
              </a:rPr>
              <a:t>Component-based / event- driven framework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Publishing frameworks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  <a:p>
            <a:pPr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kzidenz Grotesk Roman"/>
              </a:rPr>
              <a:t>5 </a:t>
            </a:r>
            <a:r>
              <a:rPr b="0" lang="en-GB" sz="1200" spc="-1" strike="noStrike">
                <a:solidFill>
                  <a:srgbClr val="000000"/>
                </a:solidFill>
                <a:latin typeface="Akzidenz Grotesk Roman"/>
              </a:rPr>
              <a:t>Credit Suisse internally developed web presentation frameworks</a:t>
            </a:r>
            <a:endParaRPr b="0" lang="en-US" sz="1200" spc="-1" strike="noStrike">
              <a:solidFill>
                <a:srgbClr val="000000"/>
              </a:solidFill>
              <a:latin typeface="Akzidenz Grotesk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1720" y="414000"/>
            <a:ext cx="8013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EVALUATION STEPS </a:t>
            </a:r>
            <a:br>
              <a:rPr sz="2600"/>
            </a:br>
            <a:r>
              <a:rPr b="0" lang="en-US" sz="2600" spc="-1" strike="noStrike">
                <a:solidFill>
                  <a:srgbClr val="0099cc"/>
                </a:solidFill>
                <a:latin typeface="Akzidenz Grotesk Roman"/>
              </a:rPr>
              <a:t>Internet research – Framework overview</a:t>
            </a:r>
            <a:endParaRPr b="0" lang="en-US" sz="2600" spc="-1" strike="noStrike">
              <a:solidFill>
                <a:srgbClr val="0099cc"/>
              </a:solidFill>
              <a:latin typeface="Akzidenz Grotesk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1:17:02Z</dcterms:created>
  <dc:creator>A406140</dc:creator>
  <dc:description>--.--.02</dc:description>
  <cp:keywords>x.1</cp:keywords>
  <dc:language>en-US</dc:language>
  <cp:lastModifiedBy>Schmid Marianne (KXT)</cp:lastModifiedBy>
  <cp:lastPrinted>2004-11-22T13:33:22Z</cp:lastPrinted>
  <dcterms:modified xsi:type="dcterms:W3CDTF">2004-11-24T14:30:46Z</dcterms:modified>
  <cp:revision>186</cp:revision>
  <dc:subject>Projektname</dc:subject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6872736</vt:r8>
  </property>
  <property fmtid="{D5CDD505-2E9C-101B-9397-08002B2CF9AE}" pid="3" name="_AuthorEmail">
    <vt:lpwstr>marianne.schmid.2@credit-suisse.com</vt:lpwstr>
  </property>
  <property fmtid="{D5CDD505-2E9C-101B-9397-08002B2CF9AE}" pid="4" name="_AuthorEmailDisplayName">
    <vt:lpwstr>Schmid Marianne (KXT)</vt:lpwstr>
  </property>
  <property fmtid="{D5CDD505-2E9C-101B-9397-08002B2CF9AE}" pid="5" name="_EmailSubject">
    <vt:lpwstr>Neueste Version</vt:lpwstr>
  </property>
  <property fmtid="{D5CDD505-2E9C-101B-9397-08002B2CF9AE}" pid="6" name="_NewReviewCycle">
    <vt:lpwstr/>
  </property>
</Properties>
</file>